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96FD-FFDA-419C-981F-F79F4C335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5D03-CFDE-4BEE-B66E-53537BEA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1827-2BBD-4630-810B-BC667CEA1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5D3F-D54B-469A-8429-3CCB57181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A978-4657-49A9-8CB9-67561EE3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7D50-3DCC-45DE-AA2D-6E4BCB42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09C3-5699-4C03-8C27-E840016B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B851-1AB2-491B-8241-65173389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F0E1-679F-4E93-8D7D-0122AD78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7632-A8CF-4D66-A291-6F2B3863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54BE-691D-4851-9B1E-18D870EF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3416-1134-463F-BF17-B8F72D21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75A5-203A-4ED4-A38C-349AD0DED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NVATAREA PRIN PROIEC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797360"/>
            <a:ext cx="2521080" cy="1368360"/>
          </a:xfrm>
          <a:prstGeom prst="ellipse">
            <a:avLst/>
          </a:prstGeom>
          <a:solidFill>
            <a:srgbClr val="5cee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iva la modelu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ntional al invatar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03640" y="5446800"/>
            <a:ext cx="2663640" cy="1411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loc de dezvolt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ompetentel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lului XX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27640" y="1989000"/>
            <a:ext cx="2665440" cy="13687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re contin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22560" y="44085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EV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2708280"/>
            <a:ext cx="792360" cy="69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292360" y="2708280"/>
            <a:ext cx="934920" cy="69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4724280"/>
            <a:ext cx="9352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5292360" y="4724280"/>
            <a:ext cx="107964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72360" y="4869000"/>
            <a:ext cx="2449440" cy="1368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a investigat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 termen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500720" y="4724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989000"/>
            <a:ext cx="2665440" cy="1297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era situat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e de vi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6920" y="907920"/>
            <a:ext cx="40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racteristicile proiectul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19640" y="3284640"/>
            <a:ext cx="1944360" cy="1439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780000" y="3500280"/>
            <a:ext cx="1285560" cy="8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OIEC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NVATAREA PRIN PROIEC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346560" y="3327480"/>
            <a:ext cx="2019240" cy="1428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95280" y="2895480"/>
            <a:ext cx="2305080" cy="1368720"/>
          </a:xfrm>
          <a:prstGeom prst="ellipse">
            <a:avLst/>
          </a:prstGeom>
          <a:solidFill>
            <a:srgbClr val="dee0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oseste strateg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te de instru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2560" y="5127480"/>
            <a:ext cx="2305080" cy="129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lica tehnolo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c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27640" y="2752560"/>
            <a:ext cx="2305080" cy="1368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opera si ap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22920" y="5127480"/>
            <a:ext cx="2665440" cy="13687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 la luar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ziil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euna cu profesor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51280" y="4149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EV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8920" y="3543480"/>
            <a:ext cx="720720" cy="46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62560" y="3616200"/>
            <a:ext cx="9381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3280" y="4768560"/>
            <a:ext cx="50328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5362560" y="4768920"/>
            <a:ext cx="64944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74920" y="5560920"/>
            <a:ext cx="2305080" cy="1297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zvolta compet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comuni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498920" y="47689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43280" y="1671480"/>
            <a:ext cx="2665440" cy="12970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ifesta creativi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curiozi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ectu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54560" y="29685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3320" y="1000080"/>
            <a:ext cx="47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neficiile invatarii prin proi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07120" y="649116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of. Nicola A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8:55:06Z</dcterms:created>
  <dc:creator>Aura Nicola</dc:creator>
  <dc:description/>
  <dc:language>en-US</dc:language>
  <cp:lastModifiedBy>Aura Nicola</cp:lastModifiedBy>
  <dcterms:modified xsi:type="dcterms:W3CDTF">2011-04-08T04:40:07Z</dcterms:modified>
  <cp:revision>15</cp:revision>
  <dc:subject/>
  <dc:title>Slide 1</dc:title>
</cp:coreProperties>
</file>